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AB6-251C-4DB1-83E7-24364E3F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FE1-4C32-4AAD-9116-BCFB2B62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F8D-9E1C-41B9-BA5A-EA7A3DA8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2A7-5792-4546-9608-E3DFAB0F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DC45F-2C5A-4945-97A6-632D905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13D6-5246-4453-A9AD-43671B2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11DF5-52E7-4F05-9C77-9B662965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64AC-C880-4406-B573-8FE001C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97BC0-0670-4172-B8B0-EB42D6BB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63CD-AEA5-44AB-8E20-D514E0F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A99E0-F211-4D76-9B18-B1DE39F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D70-5D78-4A51-8AF6-0642E92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74B9-BDAB-44BD-9614-EE9D00D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CFC88-7BF8-49F0-88E7-4AF0B97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B969-9385-4B66-A651-173C593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9FBFF-D2EE-4897-ACB9-4F8706F0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BF038-BF4C-4433-AAA0-2901E886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D7E-CFF1-46B1-8C83-4D75D1C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CE4-058D-42B7-BC61-D30E9B4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B09-FBF5-4A00-B5B6-4E4B42C6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EDE-1E5F-4856-AD47-E088999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933-77CA-4AB8-9621-21CD930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868-EAFA-430C-89DC-1ED61BF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DA6-4D37-4476-AA7F-61F8E03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D84-E042-454E-BDF3-E60511D61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31F-BF93-466A-9B90-15A43E7EA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a Wa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eps for Idea Wa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ten to the question or tas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nk about and write down your own ide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hare one idea when the wave comes to you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e a public voice and speak in complete sent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cord new ideas you he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ntence Start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ressing Ide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y opinion, 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that ___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idea is that 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eems to me that 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ressing Opin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gree with _____________ that 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idea is similar to ________’s.  I also think that __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idea builds on ____________’s id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d like to add 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agree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idea is different from ________’s id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that _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don’t completely agree with ____’s id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y opinion, 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a different perspective from 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believe ________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39:50Z</dcterms:created>
  <dc:creator>Barbara Vogt</dc:creator>
  <dc:description/>
  <dc:language>en-US</dc:language>
  <cp:lastModifiedBy>Barbara Vogt</cp:lastModifiedBy>
  <dcterms:modified xsi:type="dcterms:W3CDTF">2012-02-11T18:12:13Z</dcterms:modified>
  <cp:revision>3</cp:revision>
  <dc:subject/>
  <dc:title>Idea Wave</dc:title>
</cp:coreProperties>
</file>